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2A9022-245B-4EB4-A914-E0F43BDF02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437920" y="-36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58F012-9F97-4C49-B1A1-E6B1F414913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437920" y="-36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2C5DA6-7A14-4B20-BA57-F3A3496BA5D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37920" y="-36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598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598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9636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9636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44ACFA-7304-4FFA-9FEB-88797F5F817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37920" y="-36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59876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77C0BB-2DFA-43A7-9653-4860EBCDC21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437920" y="-36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B5137D-341C-4C7A-8D60-8F8A0F321DE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437920" y="-36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022A3C-DD61-46C4-9284-54DDA1F68F0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7920" y="-36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5168DD-9C42-4EE7-882F-B95B259A4EC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2437920" y="-360"/>
            <a:ext cx="6705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48A6B0-5832-43F9-8AA0-A1EA4F2C36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7920" y="-36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736681-328F-483C-A5BC-147DA3B524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437920" y="-36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FD0ECD-2A1C-4076-8CB7-3F68158FFA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437920" y="-36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EAA5F3-831D-4BB2-828D-0808AB69BDD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37920" y="-36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876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0488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0484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6204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1924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1924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1924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402400" y="6454440"/>
            <a:ext cx="284040" cy="26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  <a:ea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4D2FE-DF60-4B53-8C7D-DBA2012ADDCF}" type="slidenum">
              <a:rPr b="0" lang="en-US" sz="1200" spc="-1" strike="noStrike">
                <a:solidFill>
                  <a:srgbClr val="000000"/>
                </a:solidFill>
                <a:latin typeface="Verdana"/>
                <a:ea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2514600" y="0"/>
            <a:ext cx="6642000" cy="1219320"/>
          </a:xfrm>
          <a:prstGeom prst="rect">
            <a:avLst/>
          </a:prstGeom>
          <a:gradFill rotWithShape="0">
            <a:gsLst>
              <a:gs pos="0">
                <a:srgbClr val="ffcc00">
                  <a:alpha val="55294"/>
                </a:srgbClr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657520" cy="781200"/>
          </a:xfrm>
          <a:prstGeom prst="rect">
            <a:avLst/>
          </a:prstGeom>
          <a:ln w="0">
            <a:noFill/>
          </a:ln>
        </p:spPr>
      </p:pic>
      <p:sp>
        <p:nvSpPr>
          <p:cNvPr id="41" name=""/>
          <p:cNvSpPr/>
          <p:nvPr/>
        </p:nvSpPr>
        <p:spPr>
          <a:xfrm>
            <a:off x="0" y="1219320"/>
            <a:ext cx="9144000" cy="0"/>
          </a:xfrm>
          <a:prstGeom prst="line">
            <a:avLst/>
          </a:prstGeom>
          <a:ln w="25560">
            <a:solidFill>
              <a:srgbClr val="77777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" name=""/>
          <p:cNvSpPr/>
          <p:nvPr/>
        </p:nvSpPr>
        <p:spPr>
          <a:xfrm>
            <a:off x="152280" y="685800"/>
            <a:ext cx="2298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  <a:ea typeface="Verdana"/>
              </a:rPr>
              <a:t>ENGR330-1 Engineering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  <a:ea typeface="Verdana"/>
              </a:rPr>
              <a:t>Service Projects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727000" y="-360"/>
            <a:ext cx="6251400" cy="1219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roject: Roofing 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"/>
          <p:cNvSpPr/>
          <p:nvPr/>
        </p:nvSpPr>
        <p:spPr>
          <a:xfrm>
            <a:off x="228600" y="5638680"/>
            <a:ext cx="8597880" cy="749520"/>
          </a:xfrm>
          <a:prstGeom prst="rect">
            <a:avLst/>
          </a:prstGeom>
          <a:solidFill>
            <a:srgbClr val="00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Lucida Grande"/>
                <a:ea typeface="Lucida Grande"/>
              </a:rPr>
              <a:t>Benefits</a:t>
            </a:r>
            <a:r>
              <a:rPr b="0" lang="en-US" sz="1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:  (quantify the effects on the following for the homeowner)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HEALTH: NA</a:t>
            </a:r>
            <a:r>
              <a:rPr b="0" lang="en-US" sz="1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SUSTAINABILITY: Metal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COST: Depends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DURABILITY: Metal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" name=""/>
          <p:cNvSpPr/>
          <p:nvPr/>
        </p:nvSpPr>
        <p:spPr>
          <a:xfrm>
            <a:off x="184320" y="1268280"/>
            <a:ext cx="84582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Lucida Grande"/>
                <a:ea typeface="Lucida Grande"/>
              </a:rPr>
              <a:t>Background</a:t>
            </a:r>
            <a:r>
              <a:rPr b="0" lang="en-US" sz="1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: Roofs, like other parts of a house, can be a cost saver for a family if done correctly. Here are some tips when choosing a roof for a HFH house.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" name=""/>
          <p:cNvSpPr/>
          <p:nvPr/>
        </p:nvSpPr>
        <p:spPr>
          <a:xfrm>
            <a:off x="5627520" y="3498840"/>
            <a:ext cx="195588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 algn="ctr"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VS.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" name=""/>
          <p:cNvSpPr/>
          <p:nvPr/>
        </p:nvSpPr>
        <p:spPr>
          <a:xfrm>
            <a:off x="260280" y="1827360"/>
            <a:ext cx="4102200" cy="24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Lucida Grande"/>
                <a:ea typeface="Lucida Grande"/>
              </a:rPr>
              <a:t>Objectives: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Determine the components of a roof that saves a home owner money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Determine which type of roof is best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Lucida Grande"/>
                <a:ea typeface="Lucida Grande"/>
              </a:rPr>
              <a:t>Findings/Solutions: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Solar reflectance (SR), Thermal emittance (TE), Solar reflectance index (SRI)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Metal vs. asphalt shingles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807080" y="1765440"/>
            <a:ext cx="1822320" cy="36446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6616800" y="1778040"/>
            <a:ext cx="1815840" cy="3632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454064-E4A6-4080-B9B8-89B0F0ACFB80}" type="slidenum">
              <a:t>1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Rich Wells</dc:creator>
  <dc:description/>
  <dc:language>en-US</dc:language>
  <cp:lastModifiedBy/>
  <cp:revision>0</cp:revision>
  <dc:subject/>
  <dc:title>Slide 1</dc:title>
</cp:coreProperties>
</file>